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2C2-CE08-42A6-B0D0-055920E6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965-59A7-4453-9184-232C7CDC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909-801B-4B9F-86F7-406FFCCB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8F6-7792-43E5-87F9-FAC146CF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A98-683A-491D-93ED-056574B3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854-31D7-48F9-B230-2FDEDEA3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50B-1B51-4D02-B0B5-8C161AFD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DEA-E47B-4357-A9C5-8AD71726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E67-B609-4D61-97AC-098CB6DE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8A8-8146-4384-87FB-077E53EA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803-D096-48FC-BDDC-FF5A2E40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54B-4E1F-4FE4-A2EA-048DDB44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C6CC-A544-4D46-AEC2-A2AD59DD7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lectric C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why we need to keep making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Intro/Backgroun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lectric cars have been available for over a century now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y were originally viewed as feminine, thoug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s caused gas-powered cars to be produced instead, and now they cause problem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62520" y="3149640"/>
            <a:ext cx="3744720" cy="3379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05280" y="6603840"/>
            <a:ext cx="26067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Photo source: http://www.auuuu.com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Problems to be solved  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Miles per cha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Nissan Leaf - 60 miles per cha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xpens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Leaf- twice as much as comparable Vers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Gasoline-powered cars could actually be more gre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4600" y="304560"/>
            <a:ext cx="59482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Reasons why electric cars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are worth the invest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United States is too focused on Middle East oi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lectric cars can relieve oil depende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Over $700 billion has been sent overseas in the past 6 years for oi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Over 95 percent of trips could be made in electric ca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combustion engine can be added in case the vehicle should require greater ran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fter a certain number of miles travelled, electric cars actually are more green than their gas-powered cousi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71200" y="304560"/>
            <a:ext cx="667404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A Theory: How Electric Cars </a:t>
            </a: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could Boost the Econom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Electric cars allow people to travel without paying near as much for gasoli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If people don't buy as much gasoline, then they have more money in their pocke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more money people have, the more they spend, and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onsumer spending has been proven to boost the econom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